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530-F0C0-4795-8581-CF332FF1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C4A-2A4A-43EE-B49D-8E8DF0EA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D6F-FB60-4785-84DD-48F37D4F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808-4423-4907-9282-F45A7825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2E5F-D702-47F2-AB6D-38B3CBF8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DE81-4D97-4907-A7B0-3EB0155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BBDB-D074-448A-8B51-68F0F940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9F48-9708-42D1-9079-29C509D9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4A15-9980-4C57-BFF7-B26ADB83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ABF8-D5A7-4001-992B-3F876715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2F9E-BE1A-4DFE-9382-710CB5A9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04B-7F11-4B3A-BAE1-7DEA055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8E93-D756-4440-86D7-B2C39DDC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7B79-EF7D-41A6-8577-6C679AF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13CE-8DA0-4D68-AF18-AADC07E7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5A3-6091-4614-84B5-0BDA915B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C0EB-573B-4603-A1DA-3D1306C4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E25B-12F0-4CA1-8E38-9CA64447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7C2F-ED1A-4575-88CC-9993ECF8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0C51-A65D-4728-B2D8-6E351E10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E485-035B-4CDE-8A24-95B25D3A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45AB-5332-4747-91BE-F59138E0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AD1-193B-4E06-896E-864AA023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CB6B-500D-4249-AA10-582159DB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6283-9663-4E2E-9644-FEAD686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1770-3D38-4231-A0B2-22B8E793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9563-80FD-4BE8-88CD-7B0E39A9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9FA6-B86D-4E98-9BC3-823B7866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BF21-FBE4-4F3B-8978-B7A029D9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F824-3F95-4834-98AC-300CE8E8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C7450-66A3-4D98-B8FD-5A187E3D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5C3E-070F-4F8B-9535-3D08F9D8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E751-28B3-429E-A59F-211A0C2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D2A-A79E-435A-9ECF-BBEE2FB7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FCC5-A0AD-4E22-A2EC-20380F26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B7EA2-4984-420E-9FCF-06E326C3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ECE9-96B4-4978-AD0C-43051B24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E429-DA6F-494D-B3B5-44E6840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009A-D9C4-4B7B-A670-03F7763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255D-B8E1-4033-968B-76CB4F3F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7BD5-6515-47DF-804D-42A42C4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CE63-A6BC-4FF1-B798-356B4D42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12BB-9DFB-4DF6-B018-43ADC051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A79A-1061-4A73-A07F-ACCD8843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286-FF04-4032-8543-6BDECBB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3EBD8-A4E0-405D-807F-B0B64C31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9B38-3A07-4063-8C46-3D78F2BF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1D333-1059-4367-BE71-0E65741B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9B6BA-96FD-47B9-893A-39D1CDAA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8940-CE11-485F-913A-F0676C58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1131-B50A-4E1A-BC43-56FCF0D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5296D-06D7-451A-99A7-B4CAC9A5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EBCEC-6370-45E4-A1AD-3BCE8789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4B537-D873-4D6F-94E3-D41F5CCF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A3DB-0B84-4579-9B00-2486B141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A57-F182-4FB9-BA2C-9B899F03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6D3A-80AF-4166-AAE6-ECCEFA2F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1C5BC-5DED-468E-A545-6B61C34D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DF55A-551C-4172-ABF7-B4C0389C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9B95-7E37-4C17-BDBB-68CD16C0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8FD73-96F6-4ED8-BA9F-5C1F499D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02FA3-CB81-4680-841F-DC568F71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C27B-0F07-4429-AE38-A04B26B9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B2B29-D8D2-4914-AF1F-6808290A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9E6C9-E21E-43D3-A2B1-A2BE17C4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8B12D-3520-4C88-A835-29DCDF45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62A-A723-42D3-AA01-55B31024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CA360-E7CB-46B2-B70C-3920E1CE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7AAD-F846-4572-8F75-80C60BC5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701A7-9E8F-4972-A7C1-E508561A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F1FEA-C46C-40C1-8082-C9659D4A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2253D-630E-43ED-8D15-5ECC2F30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C88C0-B8E6-4441-8D84-1C0C9F62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3C20D-C673-4B46-9BEA-FFC2A54D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0BD65-93FA-42D9-ACEF-A1AD9F7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09B7E-7B16-4913-AC6E-6DFB142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3D4E8-76A5-43E1-AB8C-E0870057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A85-FAB2-4F37-9EE0-E39A7501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4ECB-3FD2-4988-8A3F-1CE9C1A3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D00D-B58C-4334-9E01-FBAD3D61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E4C79-0B70-41E6-9920-098267F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D4DB-FD0D-4861-9E2B-26DE771A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8C58A-5D96-4A56-8CE5-28B92B67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25E-D974-4364-AEB6-77FAF3C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565C-D6F9-411A-8F0B-59BC4AB7034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BF85-9BBA-44E6-BA55-B2A55C07D155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29F9-6F6E-4306-B90A-4EAC5C02AE5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93F7-17F8-4D3A-B545-2DF0BB26AC0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28E2-8D73-4C13-979D-446AADE083F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5BAF-8713-4E56-9C53-3C1ECDF2EC3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29BF-B269-4CAB-87FE-5FA0F3549FE9}" type="slidenum"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дом.jpg"/>
          <p:cNvPicPr/>
          <p:nvPr/>
        </p:nvPicPr>
        <p:blipFill>
          <a:blip r:embed="rId2"/>
          <a:stretch/>
        </p:blipFill>
        <p:spPr>
          <a:xfrm>
            <a:off x="1352520" y="1882800"/>
            <a:ext cx="6438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9" name="Содержимое 4" descr="стена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3600" cy="337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071680" y="1143000"/>
            <a:ext cx="3614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Wall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СТЕНА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32" name="Содержимое 4" descr="дверь.jpg"/>
          <p:cNvPicPr/>
          <p:nvPr/>
        </p:nvPicPr>
        <p:blipFill>
          <a:blip r:embed="rId1"/>
          <a:stretch/>
        </p:blipFill>
        <p:spPr>
          <a:xfrm>
            <a:off x="428760" y="1357200"/>
            <a:ext cx="4081320" cy="4929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Door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ДВЕРЬ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00680" y="-5018760"/>
            <a:ext cx="1429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H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– коридор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 - кух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Pantry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кладов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гости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паль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ван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Toilet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туалет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indow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окно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тена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Door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дверь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36" name="Рисунок 5" descr="дом.jpg"/>
          <p:cNvPicPr/>
          <p:nvPr/>
        </p:nvPicPr>
        <p:blipFill>
          <a:blip r:embed="rId1"/>
          <a:stretch/>
        </p:blipFill>
        <p:spPr>
          <a:xfrm>
            <a:off x="4071960" y="3279600"/>
            <a:ext cx="4594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73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" y="6308640"/>
            <a:ext cx="822960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9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5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7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8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3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4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5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6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7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8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9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0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1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2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3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4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4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5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6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0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2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9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0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1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2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3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4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5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6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7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9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1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5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6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7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8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9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0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1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2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3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4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5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6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7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8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9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0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5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6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7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8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1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2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4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5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6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7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8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9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0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1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2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3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4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5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6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8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9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0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1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2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3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4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8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9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0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1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2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3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9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2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3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4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6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7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8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9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0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1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2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3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4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5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6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7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1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2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3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4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6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8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9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0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1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2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3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4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5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6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3" descr="коридор.jpg"/>
          <p:cNvPicPr/>
          <p:nvPr/>
        </p:nvPicPr>
        <p:blipFill>
          <a:blip r:embed="rId2"/>
          <a:stretch/>
        </p:blipFill>
        <p:spPr>
          <a:xfrm>
            <a:off x="285840" y="285840"/>
            <a:ext cx="4054320" cy="62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104"/>
                </a:solidFill>
                <a:latin typeface="Century Gothic"/>
              </a:rPr>
              <a:t>Hall</a:t>
            </a: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104"/>
                </a:solidFill>
                <a:latin typeface="Century Gothic"/>
              </a:rPr>
              <a:t>КОРИДОР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0" y="99972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3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4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5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7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2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5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6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9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0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1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2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3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4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5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6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7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8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0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1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2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3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4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5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6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7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8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9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0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1" name="Прямоугольник 49"/>
          <p:cNvSpPr/>
          <p:nvPr/>
        </p:nvSpPr>
        <p:spPr>
          <a:xfrm>
            <a:off x="3929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2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7120" y="4714920"/>
            <a:ext cx="7972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КУХ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09" name="Рисунок 10" descr="кухня.jpg"/>
          <p:cNvPicPr/>
          <p:nvPr/>
        </p:nvPicPr>
        <p:blipFill>
          <a:blip r:embed="rId2"/>
          <a:stretch/>
        </p:blipFill>
        <p:spPr>
          <a:xfrm>
            <a:off x="1071720" y="0"/>
            <a:ext cx="7143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1" name="Содержимое 4" descr="кладовка.jpg"/>
          <p:cNvPicPr/>
          <p:nvPr/>
        </p:nvPicPr>
        <p:blipFill>
          <a:blip r:embed="rId1"/>
          <a:stretch/>
        </p:blipFill>
        <p:spPr>
          <a:xfrm>
            <a:off x="285840" y="214200"/>
            <a:ext cx="4854600" cy="6519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143320" y="1785960"/>
            <a:ext cx="37573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Pantry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Кладовая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4" name="Содержимое 4" descr="гостинная.jpg"/>
          <p:cNvPicPr/>
          <p:nvPr/>
        </p:nvPicPr>
        <p:blipFill>
          <a:blip r:embed="rId1"/>
          <a:stretch/>
        </p:blipFill>
        <p:spPr>
          <a:xfrm>
            <a:off x="2000160" y="57240"/>
            <a:ext cx="4857840" cy="464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13840" y="500040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ГОСТИННАЯ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7" name="Содержимое 4" descr="спальня.jpg"/>
          <p:cNvPicPr/>
          <p:nvPr/>
        </p:nvPicPr>
        <p:blipFill>
          <a:blip r:embed="rId1"/>
          <a:stretch/>
        </p:blipFill>
        <p:spPr>
          <a:xfrm>
            <a:off x="1357200" y="214200"/>
            <a:ext cx="6500880" cy="4721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5214600"/>
            <a:ext cx="84009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СПАЛЬ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0" name="Содержимое 4" descr="ванная.jpg"/>
          <p:cNvPicPr/>
          <p:nvPr/>
        </p:nvPicPr>
        <p:blipFill>
          <a:blip r:embed="rId1"/>
          <a:stretch/>
        </p:blipFill>
        <p:spPr>
          <a:xfrm>
            <a:off x="2428920" y="285840"/>
            <a:ext cx="4286160" cy="4673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71680" y="507204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104"/>
                </a:solidFill>
                <a:latin typeface="Century Gothic"/>
              </a:rPr>
              <a:t>ВАННАЯ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3" name="Содержимое 4" descr="туалет.jpg"/>
          <p:cNvPicPr/>
          <p:nvPr/>
        </p:nvPicPr>
        <p:blipFill>
          <a:blip r:embed="rId1"/>
          <a:stretch/>
        </p:blipFill>
        <p:spPr>
          <a:xfrm>
            <a:off x="285840" y="642960"/>
            <a:ext cx="4203720" cy="5605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Toilet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ТУАЛЕТ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6" name="Содержимое 4" descr="окно.jpg"/>
          <p:cNvPicPr/>
          <p:nvPr/>
        </p:nvPicPr>
        <p:blipFill>
          <a:blip r:embed="rId1"/>
          <a:stretch/>
        </p:blipFill>
        <p:spPr>
          <a:xfrm>
            <a:off x="428760" y="1643040"/>
            <a:ext cx="380844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Window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ОКНО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1:59Z</dcterms:modified>
  <cp:revision>27</cp:revision>
  <dc:subject/>
  <dc:title>«Describing your house»</dc:title>
</cp:coreProperties>
</file>